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D24-B3FA-40C4-942B-8F519069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9BF-BD3C-4C43-BE25-5723C40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C85-90D7-4B8E-B7C8-3617EEF8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418-709B-46DA-9216-28DA7F09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FEF-5DF3-4A70-B319-68762F4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34A-B6B2-4846-B8B3-AA85FB33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A07-998D-4F2C-B8B9-86BE2FF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32B-09D8-4813-B71D-C0396177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10C-7C9B-4974-85EE-ACFC018C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DA9-1C5D-41A1-AF85-A03D801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646-50AF-45C9-990C-F140975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ED5-275D-4D58-8EEF-F1C6A3C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B1A5-C96E-42BB-977D-CC3CB0ADB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hyperlink" Target="http://www.theodora.com/wfb" TargetMode="External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8" descr="C:\Documents and Settings\ISLPT342\Local Settings\Temporary Internet Files\Content.IE5\WOE9UHKA\MP90042438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TextBox 1"/>
          <p:cNvGrpSpPr/>
          <p:nvPr/>
        </p:nvGrpSpPr>
        <p:grpSpPr>
          <a:xfrm>
            <a:off x="3956040" y="-6480"/>
            <a:ext cx="2225520" cy="2689200"/>
            <a:chOff x="3956040" y="-6480"/>
            <a:chExt cx="2225520" cy="2689200"/>
          </a:xfrm>
        </p:grpSpPr>
        <p:pic>
          <p:nvPicPr>
            <p:cNvPr id="56" name="TextBox 1" descr=""/>
            <p:cNvPicPr/>
            <p:nvPr/>
          </p:nvPicPr>
          <p:blipFill>
            <a:blip r:embed="rId2"/>
            <a:stretch/>
          </p:blipFill>
          <p:spPr>
            <a:xfrm>
              <a:off x="3956040" y="-6480"/>
              <a:ext cx="222552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962520" y="0"/>
              <a:ext cx="22096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y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yria has lots of sand and mountai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TextBox 4"/>
          <p:cNvGrpSpPr/>
          <p:nvPr/>
        </p:nvGrpSpPr>
        <p:grpSpPr>
          <a:xfrm>
            <a:off x="2511360" y="2664000"/>
            <a:ext cx="4280040" cy="3425760"/>
            <a:chOff x="2511360" y="2664000"/>
            <a:chExt cx="4280040" cy="3425760"/>
          </a:xfrm>
        </p:grpSpPr>
        <p:pic>
          <p:nvPicPr>
            <p:cNvPr id="59" name="TextBox 4" descr=""/>
            <p:cNvPicPr/>
            <p:nvPr/>
          </p:nvPicPr>
          <p:blipFill>
            <a:blip r:embed="rId3"/>
            <a:stretch/>
          </p:blipFill>
          <p:spPr>
            <a:xfrm>
              <a:off x="2511360" y="2664000"/>
              <a:ext cx="428004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514600" y="2666880"/>
              <a:ext cx="4267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Country Fa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Government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ublic under a military regime since March 19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pital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Damascus, 2,381,800 (metro. area), 1,861,9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anguage 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ab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ligions :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lam 90%Christian 1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teracy Rate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73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atural Resources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troleum, chrome, asphal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5"/>
          <p:cNvSpPr/>
          <p:nvPr/>
        </p:nvSpPr>
        <p:spPr>
          <a:xfrm>
            <a:off x="3733920" y="6396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ag of Sy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lag of Syria"/>
          <p:cNvPicPr/>
          <p:nvPr/>
        </p:nvPicPr>
        <p:blipFill>
          <a:blip r:embed="rId4"/>
          <a:stretch/>
        </p:blipFill>
        <p:spPr>
          <a:xfrm>
            <a:off x="3560760" y="5175360"/>
            <a:ext cx="1949400" cy="237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Qala't ibn Maan, Syria"/>
          <p:cNvPicPr/>
          <p:nvPr/>
        </p:nvPicPr>
        <p:blipFill>
          <a:blip r:embed="rId5"/>
          <a:stretch/>
        </p:blipFill>
        <p:spPr>
          <a:xfrm>
            <a:off x="-6480" y="3882960"/>
            <a:ext cx="2425680" cy="1762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onical mud-brick beehive houses, central Syria."/>
          <p:cNvPicPr/>
          <p:nvPr/>
        </p:nvPicPr>
        <p:blipFill>
          <a:blip r:embed="rId6"/>
          <a:stretch/>
        </p:blipFill>
        <p:spPr>
          <a:xfrm>
            <a:off x="6608880" y="4035600"/>
            <a:ext cx="2260440" cy="2719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3"/>
          <p:cNvSpPr/>
          <p:nvPr/>
        </p:nvSpPr>
        <p:spPr>
          <a:xfrm>
            <a:off x="67816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ehive hou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ala't ibn M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Map of Syria, MIddle Eastern Countries"/>
          <p:cNvPicPr/>
          <p:nvPr/>
        </p:nvPicPr>
        <p:blipFill>
          <a:blip r:embed="rId7"/>
          <a:srcRect l="38937" t="0" r="30089" b="13994"/>
          <a:stretch/>
        </p:blipFill>
        <p:spPr>
          <a:xfrm>
            <a:off x="6916680" y="0"/>
            <a:ext cx="222732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yria Map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3200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1-08T17:27:18Z</dcterms:modified>
  <cp:revision>19</cp:revision>
  <dc:subject/>
  <dc:title>Slide 1</dc:title>
</cp:coreProperties>
</file>